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630-76CC-45CC-A458-979FEF63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CDB-587E-4AC1-BBBD-748C5D46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920-2BA7-47DA-A821-BB1BBAE4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724-A81C-4D9E-8D03-863C1323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6169-1EA1-4CA1-83AB-B8B48F7B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036-7605-4749-A064-A3D5FD41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5113-D270-4315-A34D-DE864588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A2ED-3DEF-4A38-A899-4B73F138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5BB2-432C-472A-BA69-11E843F8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7FAB-11B5-4819-B3C7-79274759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A58F-7444-4928-A6A8-4427FD4F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7F5-1127-45F0-BDE3-6AC7BAF5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1839-186C-4FD7-A87B-FE24A7A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F8C7-E48C-40B5-BDCC-ACC6F31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67D1-6622-4099-BBB3-CE36F3DB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5652-54D2-4044-8FFB-6C82AC6A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DD08-2EA2-456F-92C6-8C19D535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E1B-A9E4-40D8-AFC1-299B272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F4D-C5F0-458D-843E-44D69D5F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E0F-5FED-48EC-9BBD-117CCB44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F52-4216-48C9-B07D-91359D0A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105-80D1-4045-B0C8-56028BD0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565-4D9E-4C6F-8793-4A38F41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D2A-F293-48DC-9727-53782D2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C68F-6250-417A-B4C6-F3A08203024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89AB-9CE5-402E-8C3D-FE0227F5B07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زياح مار الياس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مَار الياس نَذِيرَ الحَاكِمِينْ، بَشِيرَ الرجاءِ إلى العالَمِين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يكَ تَهِفُّ القُلُوب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تى ضايَقَتْنا الكُرُوب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تَشَفَّعْ إلى الربِّ</a:t>
            </a:r>
            <a:br>
              <a:rPr sz="10800"/>
            </a:b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نا، يُسَدِّدْ خُطَانا وَيَرْأَفْ بـِنَا.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هِيبُ المَحَبَّةِ في قَلْبـِ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ذَابَ الحَواجِزَ مِنْ د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ُهَاثُ النَسِيمِ على جَنْبـِكَ، أفاضَ الرجاءَ على ك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ِيمانُكَ الحَيُّ هَزَّ السماءْ، فَجَاوَبَتِ النارُ حَرَّ الدُّعاء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 وَشَاءْ: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أرضِ لا كانَ غَيمٌ وماءْ!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: اسْكُبي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ُ بَعْدَ الظَّماءِ اشْر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لَمْ يَكْذِبِ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ادَ إلى الجِسْمِ رُوحَ الصّ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َيكَ أَيا سَاكِنَ السَّمو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َحِنُّ لَواعِجُنا الظَّامِئـَا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ـِجَاهِ نَبيِّكَ، هَبْنَا الثـَّب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سُبُلِ البرِّ حتَّى الـمَمَاتْ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13T12:00:07Z</dcterms:modified>
  <cp:revision>14</cp:revision>
  <dc:subject/>
  <dc:title>Slide 1</dc:title>
</cp:coreProperties>
</file>